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502A-DD21-4E40-A17F-F5278537A5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AA1E-E7BA-4CF8-ABAA-59B799885F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1E4A-24FF-4130-812F-C23B24647E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8A89-BBFC-44E0-A33C-F2D568EA1D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6114-D04A-43EC-ABAC-CEE5ACC48D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2AF1-ED08-4282-BE48-13F8B9FEFC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3075-ED0A-454E-818F-BA9786A5AC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B5A0-48B4-4D57-8797-05E39BA205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2000-C7A3-427A-8135-BC4CF7B403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F55D-351D-4E1F-8EE6-E74F6FE8CF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DDE6-B125-46F0-A379-D306F41DF6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507D-1528-4CA8-95A1-A3E58BA7EB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Credi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AutoShape 9">
            <a:hlinkClick r:id="" action="ppaction://hlinkshowjump?jump=previousslide"/>
          </p:cNvPr>
          <p:cNvSpPr/>
          <p:nvPr/>
        </p:nvSpPr>
        <p:spPr>
          <a:xfrm>
            <a:off x="58672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10">
            <a:hlinkClick r:id="" action="ppaction://hlinkshowjump?jump=nextslide"/>
          </p:cNvPr>
          <p:cNvSpPr/>
          <p:nvPr/>
        </p:nvSpPr>
        <p:spPr>
          <a:xfrm>
            <a:off x="67816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11">
            <a:hlinkClick r:id="" action="ppaction://hlinkshowjump?jump=endshow"/>
          </p:cNvPr>
          <p:cNvSpPr/>
          <p:nvPr/>
        </p:nvSpPr>
        <p:spPr>
          <a:xfrm>
            <a:off x="8305920" y="601668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12">
            <a:hlinkClick r:id="" action="ppaction://hlinkshowjump?jump=firstslide"/>
          </p:cNvPr>
          <p:cNvSpPr/>
          <p:nvPr/>
        </p:nvSpPr>
        <p:spPr>
          <a:xfrm>
            <a:off x="7467480" y="601668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13">
            <a:hlinkClick r:id="rId3"/>
          </p:cNvPr>
          <p:cNvSpPr/>
          <p:nvPr/>
        </p:nvSpPr>
        <p:spPr>
          <a:xfrm>
            <a:off x="4952880" y="6642000"/>
            <a:ext cx="7495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Listening and Speaking Workshop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9880" y="1754280"/>
            <a:ext cx="77706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esent Your Spe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actice and A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6">
            <a:hlinkClick r:id="" action="ppaction://hlinkshowjump?jump=endshow"/>
          </p:cNvPr>
          <p:cNvSpPr/>
          <p:nvPr/>
        </p:nvSpPr>
        <p:spPr>
          <a:xfrm>
            <a:off x="7504200" y="5886360"/>
            <a:ext cx="873000" cy="971640"/>
          </a:xfrm>
          <a:custGeom>
            <a:avLst/>
            <a:gdLst>
              <a:gd name="textAreaLeft" fmla="*/ 56520 w 873000"/>
              <a:gd name="textAreaRight" fmla="*/ 816480 w 873000"/>
              <a:gd name="textAreaTop" fmla="*/ 56520 h 971640"/>
              <a:gd name="textAreaBottom" fmla="*/ 915120 h 971640"/>
            </a:gdLst>
            <a:ahLst/>
            <a:rect l="textAreaLeft" t="textAreaTop" r="textAreaRight" b="textAreaBottom"/>
            <a:pathLst>
              <a:path w="21600" h="24040">
                <a:moveTo>
                  <a:pt x="0" y="0"/>
                </a:moveTo>
                <a:lnTo>
                  <a:pt x="21600" y="0"/>
                </a:lnTo>
                <a:lnTo>
                  <a:pt x="21600" y="24040"/>
                </a:lnTo>
                <a:lnTo>
                  <a:pt x="0" y="24040"/>
                </a:lnTo>
                <a:close/>
              </a:path>
              <a:path fill="lightenLess" w="21600" h="240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0">
                <a:moveTo>
                  <a:pt x="21600" y="0"/>
                </a:moveTo>
                <a:lnTo>
                  <a:pt x="21600" y="24040"/>
                </a:lnTo>
                <a:lnTo>
                  <a:pt x="20200" y="22640"/>
                </a:lnTo>
                <a:lnTo>
                  <a:pt x="20200" y="1400"/>
                </a:lnTo>
                <a:close/>
              </a:path>
              <a:path fill="darkenLess" w="21600" h="24040">
                <a:moveTo>
                  <a:pt x="21600" y="24040"/>
                </a:moveTo>
                <a:lnTo>
                  <a:pt x="0" y="24040"/>
                </a:lnTo>
                <a:lnTo>
                  <a:pt x="1400" y="22640"/>
                </a:lnTo>
                <a:lnTo>
                  <a:pt x="20200" y="22640"/>
                </a:lnTo>
                <a:close/>
              </a:path>
              <a:path fill="lighten" w="21600" h="24040">
                <a:moveTo>
                  <a:pt x="0" y="240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7">
            <a:hlinkClick r:id="" action="ppaction://hlinkshowjump?jump=endshow"/>
          </p:cNvPr>
          <p:cNvSpPr/>
          <p:nvPr/>
        </p:nvSpPr>
        <p:spPr>
          <a:xfrm>
            <a:off x="6067440" y="5894280"/>
            <a:ext cx="873000" cy="963720"/>
          </a:xfrm>
          <a:custGeom>
            <a:avLst/>
            <a:gdLst>
              <a:gd name="textAreaLeft" fmla="*/ 56520 w 873000"/>
              <a:gd name="textAreaRight" fmla="*/ 816480 w 873000"/>
              <a:gd name="textAreaTop" fmla="*/ 56520 h 963720"/>
              <a:gd name="textAreaBottom" fmla="*/ 907200 h 963720"/>
            </a:gdLst>
            <a:ahLst/>
            <a:rect l="textAreaLeft" t="textAreaTop" r="textAreaRight" b="textAreaBottom"/>
            <a:pathLst>
              <a:path w="21600" h="23844">
                <a:moveTo>
                  <a:pt x="0" y="0"/>
                </a:moveTo>
                <a:lnTo>
                  <a:pt x="21600" y="0"/>
                </a:lnTo>
                <a:lnTo>
                  <a:pt x="21600" y="23844"/>
                </a:lnTo>
                <a:lnTo>
                  <a:pt x="0" y="23844"/>
                </a:lnTo>
                <a:close/>
              </a:path>
              <a:path fill="lightenLess" w="21600" h="23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44">
                <a:moveTo>
                  <a:pt x="21600" y="0"/>
                </a:moveTo>
                <a:lnTo>
                  <a:pt x="21600" y="23844"/>
                </a:lnTo>
                <a:lnTo>
                  <a:pt x="20200" y="22444"/>
                </a:lnTo>
                <a:lnTo>
                  <a:pt x="20200" y="1400"/>
                </a:lnTo>
                <a:close/>
              </a:path>
              <a:path fill="darkenLess" w="21600" h="23844">
                <a:moveTo>
                  <a:pt x="21600" y="23844"/>
                </a:moveTo>
                <a:lnTo>
                  <a:pt x="0" y="23844"/>
                </a:lnTo>
                <a:lnTo>
                  <a:pt x="1400" y="22444"/>
                </a:lnTo>
                <a:lnTo>
                  <a:pt x="20200" y="22444"/>
                </a:lnTo>
                <a:close/>
              </a:path>
              <a:path fill="lighten" w="21600" h="23844">
                <a:moveTo>
                  <a:pt x="0" y="23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28480" y="1370160"/>
            <a:ext cx="831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ogical and Emotional Appe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Logical appeal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speak to readers’ common sense and logi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28480" y="2824200"/>
            <a:ext cx="73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motional appeals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aimed at readers’ hearts. They stir up feelings such as fear, sympathy, and pri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360520" y="2552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4119480" y="38401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5"/>
          <p:cNvSpPr/>
          <p:nvPr/>
        </p:nvSpPr>
        <p:spPr>
          <a:xfrm>
            <a:off x="5811840" y="6032520"/>
            <a:ext cx="2506680" cy="825480"/>
          </a:xfrm>
          <a:custGeom>
            <a:avLst/>
            <a:gdLst>
              <a:gd name="textAreaLeft" fmla="*/ 53280 w 2506680"/>
              <a:gd name="textAreaRight" fmla="*/ 2453400 w 2506680"/>
              <a:gd name="textAreaTop" fmla="*/ 53280 h 825480"/>
              <a:gd name="textAreaBottom" fmla="*/ 772200 h 825480"/>
            </a:gdLst>
            <a:ahLst/>
            <a:rect l="textAreaLeft" t="textAreaTop" r="textAreaRight" b="textAreaBottom"/>
            <a:pathLst>
              <a:path w="65572" h="21600">
                <a:moveTo>
                  <a:pt x="0" y="0"/>
                </a:moveTo>
                <a:lnTo>
                  <a:pt x="65572" y="0"/>
                </a:lnTo>
                <a:lnTo>
                  <a:pt x="65572" y="21600"/>
                </a:lnTo>
                <a:lnTo>
                  <a:pt x="0" y="21600"/>
                </a:lnTo>
                <a:close/>
              </a:path>
              <a:path fill="lightenLess" w="65572" h="21600">
                <a:moveTo>
                  <a:pt x="0" y="0"/>
                </a:moveTo>
                <a:lnTo>
                  <a:pt x="65572" y="0"/>
                </a:lnTo>
                <a:lnTo>
                  <a:pt x="64172" y="1400"/>
                </a:lnTo>
                <a:lnTo>
                  <a:pt x="1400" y="1400"/>
                </a:lnTo>
                <a:close/>
              </a:path>
              <a:path fill="darken" w="65572" h="21600">
                <a:moveTo>
                  <a:pt x="65572" y="0"/>
                </a:moveTo>
                <a:lnTo>
                  <a:pt x="65572" y="21600"/>
                </a:lnTo>
                <a:lnTo>
                  <a:pt x="64172" y="20200"/>
                </a:lnTo>
                <a:lnTo>
                  <a:pt x="64172" y="1400"/>
                </a:lnTo>
                <a:close/>
              </a:path>
              <a:path fill="darkenLess" w="65572" h="21600">
                <a:moveTo>
                  <a:pt x="65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72" y="20200"/>
                </a:lnTo>
                <a:close/>
              </a:path>
              <a:path fill="lighten" w="65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dapt Your Essay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28480" y="1370160"/>
            <a:ext cx="8282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ause-and-Effect Clue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ause-and-effect clue words to make clear the relationship between the situation and its causes and effe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232080" y="503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3327480"/>
          <a:ext cx="8076960" cy="1025280"/>
        </p:xfrm>
        <a:graphic>
          <a:graphicData uri="http://schemas.openxmlformats.org/drawingml/2006/table">
            <a:tbl>
              <a:tblPr/>
              <a:tblGrid>
                <a:gridCol w="2305080"/>
                <a:gridCol w="3252600"/>
                <a:gridCol w="251928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f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as a 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theref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o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be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128" name="Picture 34" descr=""/>
          <p:cNvPicPr/>
          <p:nvPr/>
        </p:nvPicPr>
        <p:blipFill>
          <a:blip r:embed="rId2"/>
          <a:stretch/>
        </p:blipFill>
        <p:spPr>
          <a:xfrm>
            <a:off x="2720880" y="28861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5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36"/>
          <p:cNvSpPr/>
          <p:nvPr/>
        </p:nvSpPr>
        <p:spPr>
          <a:xfrm>
            <a:off x="5811840" y="6032520"/>
            <a:ext cx="2506680" cy="825480"/>
          </a:xfrm>
          <a:custGeom>
            <a:avLst/>
            <a:gdLst>
              <a:gd name="textAreaLeft" fmla="*/ 53280 w 2506680"/>
              <a:gd name="textAreaRight" fmla="*/ 2453400 w 2506680"/>
              <a:gd name="textAreaTop" fmla="*/ 53280 h 825480"/>
              <a:gd name="textAreaBottom" fmla="*/ 772200 h 825480"/>
            </a:gdLst>
            <a:ahLst/>
            <a:rect l="textAreaLeft" t="textAreaTop" r="textAreaRight" b="textAreaBottom"/>
            <a:pathLst>
              <a:path w="65572" h="21600">
                <a:moveTo>
                  <a:pt x="0" y="0"/>
                </a:moveTo>
                <a:lnTo>
                  <a:pt x="65572" y="0"/>
                </a:lnTo>
                <a:lnTo>
                  <a:pt x="65572" y="21600"/>
                </a:lnTo>
                <a:lnTo>
                  <a:pt x="0" y="21600"/>
                </a:lnTo>
                <a:close/>
              </a:path>
              <a:path fill="lightenLess" w="65572" h="21600">
                <a:moveTo>
                  <a:pt x="0" y="0"/>
                </a:moveTo>
                <a:lnTo>
                  <a:pt x="65572" y="0"/>
                </a:lnTo>
                <a:lnTo>
                  <a:pt x="64172" y="1400"/>
                </a:lnTo>
                <a:lnTo>
                  <a:pt x="1400" y="1400"/>
                </a:lnTo>
                <a:close/>
              </a:path>
              <a:path fill="darken" w="65572" h="21600">
                <a:moveTo>
                  <a:pt x="65572" y="0"/>
                </a:moveTo>
                <a:lnTo>
                  <a:pt x="65572" y="21600"/>
                </a:lnTo>
                <a:lnTo>
                  <a:pt x="64172" y="20200"/>
                </a:lnTo>
                <a:lnTo>
                  <a:pt x="64172" y="1400"/>
                </a:lnTo>
                <a:close/>
              </a:path>
              <a:path fill="darkenLess" w="65572" h="21600">
                <a:moveTo>
                  <a:pt x="65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72" y="20200"/>
                </a:lnTo>
                <a:close/>
              </a:path>
              <a:path fill="lighten" w="65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28480" y="1370160"/>
            <a:ext cx="79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overall structure of your speech will look something like th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528480" y="2654280"/>
            <a:ext cx="228600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Attention-Grab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Opinion Stat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44"/>
          <p:cNvSpPr/>
          <p:nvPr/>
        </p:nvSpPr>
        <p:spPr>
          <a:xfrm>
            <a:off x="3162240" y="2641680"/>
            <a:ext cx="275580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</a:rPr>
              <a:t>Bod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Point 1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Point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Point 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Each with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Verdana"/>
              </a:rPr>
              <a:t>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47"/>
          <p:cNvSpPr/>
          <p:nvPr/>
        </p:nvSpPr>
        <p:spPr>
          <a:xfrm>
            <a:off x="6324480" y="2654280"/>
            <a:ext cx="228600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Verdana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Restatement</a:t>
            </a:r>
            <a:br>
              <a:rPr sz="2200"/>
            </a:b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of Opin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Call to 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6540480" y="55879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55" descr=""/>
          <p:cNvPicPr/>
          <p:nvPr/>
        </p:nvPicPr>
        <p:blipFill>
          <a:blip r:embed="rId1"/>
          <a:stretch/>
        </p:blipFill>
        <p:spPr>
          <a:xfrm>
            <a:off x="3909960" y="201780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You have limited time to present your mater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28480" y="19270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clude only the most compelling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28480" y="248904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ke sure your evidence, as well as all you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logical reasoning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releva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28480" y="3416400"/>
            <a:ext cx="8082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oose the most effectiv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Logical and Emotional Appe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28480" y="43419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appeals that best suit your listening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tretch/>
        </p:blipFill>
        <p:spPr>
          <a:xfrm>
            <a:off x="8143920" y="1652760"/>
            <a:ext cx="133200" cy="8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8391600" y="22096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6146640" y="31305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4"/>
          <a:stretch/>
        </p:blipFill>
        <p:spPr>
          <a:xfrm>
            <a:off x="7640640" y="41562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7"/>
          <p:cNvSpPr/>
          <p:nvPr/>
        </p:nvSpPr>
        <p:spPr>
          <a:xfrm>
            <a:off x="528480" y="282240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n, create notes on t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28480" y="337644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ntent of your spe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528480" y="3933720"/>
            <a:ext cx="49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verbal and nonverbal techniques you will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52848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epa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prepare a memorize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ormal speech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first make a careful outlin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3" descr=""/>
          <p:cNvPicPr/>
          <p:nvPr/>
        </p:nvPicPr>
        <p:blipFill>
          <a:blip r:embed="rId1"/>
          <a:stretch/>
        </p:blipFill>
        <p:spPr>
          <a:xfrm>
            <a:off x="4383000" y="2552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"/>
          <p:cNvPicPr/>
          <p:nvPr/>
        </p:nvPicPr>
        <p:blipFill>
          <a:blip r:embed="rId2"/>
          <a:stretch/>
        </p:blipFill>
        <p:spPr>
          <a:xfrm>
            <a:off x="4807080" y="31068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3"/>
          <a:stretch/>
        </p:blipFill>
        <p:spPr>
          <a:xfrm>
            <a:off x="4807080" y="3651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c10lsw005"/>
          <p:cNvPicPr/>
          <p:nvPr/>
        </p:nvPicPr>
        <p:blipFill>
          <a:blip r:embed="rId4"/>
          <a:stretch/>
        </p:blipFill>
        <p:spPr>
          <a:xfrm>
            <a:off x="5943600" y="2514600"/>
            <a:ext cx="2432160" cy="333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sent Your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28480" y="1370160"/>
            <a:ext cx="837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Verbal Tech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nounce words clearly and carefully. (In other words, use good diction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528480" y="282240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just your pitch to show certain feeling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28480" y="3386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ange the volume or tone of your voice to stress key points, capture attention, or convey a mo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528480" y="46702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pauses to let your ideas sink i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5240160" y="257184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" descr=""/>
          <p:cNvPicPr/>
          <p:nvPr/>
        </p:nvPicPr>
        <p:blipFill>
          <a:blip r:embed="rId2"/>
          <a:stretch/>
        </p:blipFill>
        <p:spPr>
          <a:xfrm>
            <a:off x="7902720" y="3124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" descr=""/>
          <p:cNvPicPr/>
          <p:nvPr/>
        </p:nvPicPr>
        <p:blipFill>
          <a:blip r:embed="rId3"/>
          <a:stretch/>
        </p:blipFill>
        <p:spPr>
          <a:xfrm>
            <a:off x="2568600" y="440676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sent Your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28480" y="1370160"/>
            <a:ext cx="808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onverbal Tech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natural gestures (for example, a shoulder shrug or a head nod) to emphasize emotions or ide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28480" y="41115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ke eye contact with your audience members to convey confidence and sincer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28480" y="3200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facial expressions such as smiles and frowns to clue listeners in to your feel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2220840" y="29224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2"/>
          <a:stretch/>
        </p:blipFill>
        <p:spPr>
          <a:xfrm>
            <a:off x="7831080" y="384336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sent Your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28480" y="1370160"/>
            <a:ext cx="808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ehear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your notes to rehearse your speech until you feel you can deliver it smoothly and effectively. You can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28480" y="319896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front of a mi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33520" y="3751200"/>
            <a:ext cx="41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efore an audie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28480" y="430200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ith a video cam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28480" y="485316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ith an audio record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540480" y="55879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7" descr=""/>
          <p:cNvPicPr/>
          <p:nvPr/>
        </p:nvPicPr>
        <p:blipFill>
          <a:blip r:embed="rId1"/>
          <a:stretch/>
        </p:blipFill>
        <p:spPr>
          <a:xfrm>
            <a:off x="3381480" y="29336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2"/>
          <a:stretch/>
        </p:blipFill>
        <p:spPr>
          <a:xfrm>
            <a:off x="4219560" y="34448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"/>
          <p:cNvPicPr/>
          <p:nvPr/>
        </p:nvPicPr>
        <p:blipFill>
          <a:blip r:embed="rId3"/>
          <a:stretch/>
        </p:blipFill>
        <p:spPr>
          <a:xfrm>
            <a:off x="4273560" y="4002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"/>
          <p:cNvPicPr/>
          <p:nvPr/>
        </p:nvPicPr>
        <p:blipFill>
          <a:blip r:embed="rId4"/>
          <a:stretch/>
        </p:blipFill>
        <p:spPr>
          <a:xfrm>
            <a:off x="4375080" y="45576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c10lsw006"/>
          <p:cNvPicPr/>
          <p:nvPr/>
        </p:nvPicPr>
        <p:blipFill>
          <a:blip r:embed="rId5"/>
          <a:srcRect l="0" t="5504" r="0" b="27282"/>
          <a:stretch/>
        </p:blipFill>
        <p:spPr>
          <a:xfrm>
            <a:off x="5511960" y="2998800"/>
            <a:ext cx="2543040" cy="2343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93364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811840" y="6032520"/>
            <a:ext cx="1751040" cy="825480"/>
          </a:xfrm>
          <a:custGeom>
            <a:avLst/>
            <a:gdLst>
              <a:gd name="textAreaLeft" fmla="*/ 53280 w 1751040"/>
              <a:gd name="textAreaRight" fmla="*/ 1697760 w 1751040"/>
              <a:gd name="textAreaTop" fmla="*/ 53280 h 825480"/>
              <a:gd name="textAreaBottom" fmla="*/ 772200 h 825480"/>
            </a:gdLst>
            <a:ahLst/>
            <a:rect l="textAreaLeft" t="textAreaTop" r="textAreaRight" b="textAreaBottom"/>
            <a:pathLst>
              <a:path w="45808" h="21600">
                <a:moveTo>
                  <a:pt x="0" y="0"/>
                </a:moveTo>
                <a:lnTo>
                  <a:pt x="45808" y="0"/>
                </a:lnTo>
                <a:lnTo>
                  <a:pt x="45808" y="21600"/>
                </a:lnTo>
                <a:lnTo>
                  <a:pt x="0" y="21600"/>
                </a:lnTo>
                <a:close/>
              </a:path>
              <a:path fill="lightenLess" w="45808" h="21600">
                <a:moveTo>
                  <a:pt x="0" y="0"/>
                </a:moveTo>
                <a:lnTo>
                  <a:pt x="45808" y="0"/>
                </a:lnTo>
                <a:lnTo>
                  <a:pt x="44408" y="1400"/>
                </a:lnTo>
                <a:lnTo>
                  <a:pt x="1400" y="1400"/>
                </a:lnTo>
                <a:close/>
              </a:path>
              <a:path fill="darken" w="45808" h="21600">
                <a:moveTo>
                  <a:pt x="45808" y="0"/>
                </a:moveTo>
                <a:lnTo>
                  <a:pt x="45808" y="21600"/>
                </a:lnTo>
                <a:lnTo>
                  <a:pt x="44408" y="20200"/>
                </a:lnTo>
                <a:lnTo>
                  <a:pt x="44408" y="1400"/>
                </a:lnTo>
                <a:close/>
              </a:path>
              <a:path fill="darkenLess" w="45808" h="21600">
                <a:moveTo>
                  <a:pt x="45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08" y="20200"/>
                </a:lnTo>
                <a:close/>
              </a:path>
              <a:path fill="lighten" w="45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0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8480" y="247320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23880" y="3151080"/>
            <a:ext cx="773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28480" y="1370160"/>
            <a:ext cx="808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udience and Counterclai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ticipate and address your audience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28480" y="302580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unterclaims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counterarguments (idea or belief held by your listeners that contradicts or opposes your vie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6864480" y="2197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3"/>
          <a:stretch/>
        </p:blipFill>
        <p:spPr>
          <a:xfrm>
            <a:off x="2828880" y="274464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4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1"/>
          <p:cNvSpPr/>
          <p:nvPr/>
        </p:nvSpPr>
        <p:spPr>
          <a:xfrm>
            <a:off x="5811840" y="6032520"/>
            <a:ext cx="2506680" cy="825480"/>
          </a:xfrm>
          <a:custGeom>
            <a:avLst/>
            <a:gdLst>
              <a:gd name="textAreaLeft" fmla="*/ 53280 w 2506680"/>
              <a:gd name="textAreaRight" fmla="*/ 2453400 w 2506680"/>
              <a:gd name="textAreaTop" fmla="*/ 53280 h 825480"/>
              <a:gd name="textAreaBottom" fmla="*/ 772200 h 825480"/>
            </a:gdLst>
            <a:ahLst/>
            <a:rect l="textAreaLeft" t="textAreaTop" r="textAreaRight" b="textAreaBottom"/>
            <a:pathLst>
              <a:path w="65572" h="21600">
                <a:moveTo>
                  <a:pt x="0" y="0"/>
                </a:moveTo>
                <a:lnTo>
                  <a:pt x="65572" y="0"/>
                </a:lnTo>
                <a:lnTo>
                  <a:pt x="65572" y="21600"/>
                </a:lnTo>
                <a:lnTo>
                  <a:pt x="0" y="21600"/>
                </a:lnTo>
                <a:close/>
              </a:path>
              <a:path fill="lightenLess" w="65572" h="21600">
                <a:moveTo>
                  <a:pt x="0" y="0"/>
                </a:moveTo>
                <a:lnTo>
                  <a:pt x="65572" y="0"/>
                </a:lnTo>
                <a:lnTo>
                  <a:pt x="64172" y="1400"/>
                </a:lnTo>
                <a:lnTo>
                  <a:pt x="1400" y="1400"/>
                </a:lnTo>
                <a:close/>
              </a:path>
              <a:path fill="darken" w="65572" h="21600">
                <a:moveTo>
                  <a:pt x="65572" y="0"/>
                </a:moveTo>
                <a:lnTo>
                  <a:pt x="65572" y="21600"/>
                </a:lnTo>
                <a:lnTo>
                  <a:pt x="64172" y="20200"/>
                </a:lnTo>
                <a:lnTo>
                  <a:pt x="64172" y="1400"/>
                </a:lnTo>
                <a:close/>
              </a:path>
              <a:path fill="darkenLess" w="65572" h="21600">
                <a:moveTo>
                  <a:pt x="65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72" y="20200"/>
                </a:lnTo>
                <a:close/>
              </a:path>
              <a:path fill="lighten" w="65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1:43:20Z</dcterms:created>
  <dc:creator>Tamesa Williams</dc:creator>
  <dc:description/>
  <dc:language>en-US</dc:language>
  <cp:lastModifiedBy>Dan Olsen</cp:lastModifiedBy>
  <cp:lastPrinted>2004-12-14T19:41:04Z</cp:lastPrinted>
  <dcterms:modified xsi:type="dcterms:W3CDTF">2012-01-14T20:38:17Z</dcterms:modified>
  <cp:revision>427</cp:revision>
  <dc:subject/>
  <dc:title>Slide 1</dc:title>
</cp:coreProperties>
</file>